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171-6368-44E9-958C-0EE4D9C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26C-0FA7-49B1-9C45-E15888B4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D0C-617F-4D09-9EA9-7F9EA7E5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CBA-0D2F-4650-9F97-6B85E89E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56D-016A-4C60-9F3A-EFDED0A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3C8-9CF2-4FE8-A60D-C0E0205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F43-3BE5-4371-A2FB-47A32665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23-6907-4283-AA1D-02BE5D3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66C-61CD-4718-85C2-42B5B2B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792-2F5E-4AF8-84E7-C95EF67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6C8-C23B-423A-964B-1874640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E60-CB77-447A-8BA5-072CC504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87E-96FC-45CB-9DA6-3A4BC8055D1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5 Ty sa za nás prihovára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a za nás prihovár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Pane Ježiš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e deti požehná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poctu najvyš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aj svätí anje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ú meno t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 sa skláň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u, česť Ti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áš vždy na nás hriešny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júcim rád odpúšť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nižuješ ľudí pyš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ných však v láske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š vzácny vier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pokojom nás blažíš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besiach, u Otca, 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uješ miesto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všetkými starosťa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e k tebe prichádz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 máme, nie sme s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ho Ducha chceš nám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ikom inom spásy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ba v tebe, drahý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svoj si za nás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me ti pieseň chvá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15:11Z</dcterms:modified>
  <cp:revision>35</cp:revision>
  <dc:subject/>
  <dc:title>Je veľký náš Pán, on slávy je Kráľ Nech do všetkých strán  spev vrúcnych znie chvál.</dc:title>
</cp:coreProperties>
</file>